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4E3A-21F0-4AB3-B5F2-906BF1955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3624-9915-4B0C-A81B-54E61C6D4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B5B-1C50-436E-BB14-70C894E6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279-708E-4BF3-9900-508DA366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4130-475B-4C70-BC0D-CB6EF903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3237-39E0-4F16-A773-946FD4DD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519-D3AE-4BD1-B5A8-F9306983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78F-BAF0-4DFA-ACE2-E306A01E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B99-AA32-40F9-A33E-27EECF2E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D16-ABAF-4DED-9A1A-45A60641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907-1809-471A-A59F-9FCC3F53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D35-9B51-4DA9-9264-B298F52A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FA1-8252-4216-9471-5E5485FD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D9A-7575-4625-850C-975E5AC9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C288-ACD9-4761-9650-078655967EE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7BED-8E47-444B-B346-C6C01A6E7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paparazzi.ro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erillaverde.ro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ebook.com/people/Guerilla-Verde/100000440101230" TargetMode="External"/><Relationship Id="rId3" Type="http://schemas.openxmlformats.org/officeDocument/2006/relationships/hyperlink" Target="http://twitter.com/GuerillaVerd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lideshare.net/GuerillaVerde/guerilla-verde-iii-interpretare-chestionar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www.youtube.com/watch?v=wnjx6KETmi4" TargetMode="External"/><Relationship Id="rId8" Type="http://schemas.openxmlformats.org/officeDocument/2006/relationships/hyperlink" Target="file:///C:/Documents%20and%20Settings/Ileana/Local%20Settings/Temporary%20Internet%20Files/Content.Outlook/4WFIP1GS/noimpactman.typepad.com" TargetMode="External"/><Relationship Id="rId9" Type="http://schemas.openxmlformats.org/officeDocument/2006/relationships/hyperlink" Target="http://www.youtube.com/watch?v=ENcV5zeMILs" TargetMode="External"/><Relationship Id="rId10" Type="http://schemas.openxmlformats.org/officeDocument/2006/relationships/hyperlink" Target="http://www.youtube.com/watch?v=G8IozVfph7I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3080" y="928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rima caravana educationala  de film cu mesaj ecologic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Ro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ebruarie -  mai 2013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glaguerilla.jpg"/>
          <p:cNvPicPr/>
          <p:nvPr/>
        </p:nvPicPr>
        <p:blipFill>
          <a:blip r:embed="rId2"/>
          <a:stretch/>
        </p:blipFill>
        <p:spPr>
          <a:xfrm>
            <a:off x="2857680" y="2286000"/>
            <a:ext cx="409248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urs foto – video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in cadrul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EcoPaparazzi este un concurs si o platforma de comunicare pentru toti cei interesati de ecolog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Concursul foto - video de "politie verde a bunului simt" se adreseaza tinerilor si nu numai. Se desfasoara in fiecare luna pe 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ecopaparazzi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. Pot participa fotografii sau filmulete care reflecta modul in care comunitatile locale respecta - sau nu - mediul inconjurator. Se poate inscrie oricine, indiferent de varsta sau localitatea de provenien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La finalul fiecarei editii a concursului, organizatorii vor depune sesizari privind una sau mai multe din problemele semnalate de participantii la concurs catre autoritatle competente. Pe site-ul www.ecopaparazzi.ro va putea fi urmarit in ce stadiu se afla respectivele sesizari – daca au primit un raspuns din partea autoritatilor, daca au fost solutionate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Platforma de comunicare a aparut ca urmare a interesului pe care l-au manifestat cei care au participat la concurs de-a lungul timpului. EcoPaparazzi.ro urmareste sa ofere tuturor celor care il acceseaza o imagine in timp real a problemelor de mediu din Roma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Obiectivul pe termen lung este construirea unei comunitati cu o voce puternica, ce va putea sanctiona relele practici si se va implica in actiuni practice pentru protectia medi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ecopaparazii aparat foto.jpg"/>
          <p:cNvPicPr/>
          <p:nvPr/>
        </p:nvPicPr>
        <p:blipFill>
          <a:blip r:embed="rId4"/>
          <a:stretch/>
        </p:blipFill>
        <p:spPr>
          <a:xfrm>
            <a:off x="5857920" y="214200"/>
            <a:ext cx="3105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icoleta Tal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dia Image Fa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nicoleta.talpes@imagefactory.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el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724 314 04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h/fa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31.10. 74.1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act@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www.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imagefactory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Comment &amp; Like p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tweet: </a:t>
            </a: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@GuerillaVer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i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imoniale parten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n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dit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seu si fil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paparaz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71280"/>
            <a:ext cx="9288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nceptul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uerillaverde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ce parte dintr-un proiect mai amplu, denumit generic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ET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Better Education Through Innovation), care isi propune sa contribuie la educatia generatiei de maine prin intermediul filmulu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e prim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avana educationala de filme cu mesaj ecologic, initiativa Media Image Factory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, agentie de comunicare specializata in dezvoltarea de proiecte social-c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ur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roiectul se deruleaza sub egida Ministerul Mediului, Ministeril Educatiei si  cu sprijinul primariilor oraselor gaz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NO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ntii la proiectii care vor aduce carti/filme/articole cu teme eco vor primi bilete la tombola, unde vor avea ocazia de a castiga premii verzi (de ex. biciclete, articole sportive et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si dezvol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bului Guerilla V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e, format din cadre didact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gulu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unde va fi tinu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rnalul cara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ei si vor fi posturi in egala masura ale organizatorilor, dar si ale voluntarilor, ale profesorilor si ale elev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357200" y="4287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1"/>
          <p:cNvSpPr/>
          <p:nvPr/>
        </p:nvSpPr>
        <p:spPr>
          <a:xfrm>
            <a:off x="5105520" y="6033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entury"/>
              </a:rPr>
              <a:t>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Century"/>
              </a:rPr>
              <a:t>un proie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ARTENERI GV.png"/>
          <p:cNvPicPr/>
          <p:nvPr/>
        </p:nvPicPr>
        <p:blipFill>
          <a:blip r:embed="rId2"/>
          <a:stretch/>
        </p:blipFill>
        <p:spPr>
          <a:xfrm>
            <a:off x="3286080" y="-4680"/>
            <a:ext cx="5143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e spun partenerii nostr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43040" y="150012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iectul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se potriveste perfect cu misiunea UPC de Responsabilitate Sociala, aceea de a investi in educatia copiilor pentru a-i ajuta sa isi construiasca un viitor mai bun. Pr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mplicarea sa in toate aspectele care privesc copiii de astazi, inclusiv constientizarea mediului inconjurator, UPC Romani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reste sa trasforme mediul educational intr-un colt verde de care sa se poata bucura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initiativa educativa si ecologica inedit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zinta o continuare naturala a misiunii noastre, unde ne unim forţele cu partenerii nostrii de proiect pentru o cauza buna.”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iana Badin – PR &amp; Communication Manager UPC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15040" y="1285920"/>
            <a:ext cx="3257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Tetra Pak este lider mondial in randul companiilor furnizoare de soluţii de procesare şi ambalare a alimentelor lichide.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 asumam cu responsabilitate aceasta pozitie, generand crestere in armonie cu principiile sustenabilitatii. Motto-ul nostru “PROTEJEAZA CE E BUN” reflectă viziunea noastră de a oferi alimente sigure şi disponibile oriunde, dar si actiuni de educare in spiritul protectiei mediului. Credem ca numai deprinderea de a colecta selectiv poate contribui la o mai buna gestionare a resurselor planetei.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ne ajuta sa punem in practica motto-ul nostru, prin formarea unei bune conduite sociale in randul tinerei generatii.” 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niela Cirmaciu – Responsabil Comunicare si Mediu, Tetra Pak South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5714640"/>
            <a:ext cx="64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ise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si 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edit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3095640" cy="44211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70" name="Picture 10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FIS A3 Guerilla.jpg"/>
          <p:cNvPicPr/>
          <p:nvPr/>
        </p:nvPicPr>
        <p:blipFill>
          <a:blip r:embed="rId5"/>
          <a:stretch/>
        </p:blipFill>
        <p:spPr>
          <a:xfrm>
            <a:off x="5500800" y="1214280"/>
            <a:ext cx="3000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dupa 3 ani de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1472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6 editii organizate in cei 3 ani de la lans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4. 100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de participanti - target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ineri, elevi, autoritati, presa, parten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filme proiectate, avand mesaj ecologic educ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scol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licee si  14 universitati din toata t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 ora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teriale informative distribu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52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partene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0 Facebook fri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aparitii medi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print, online, radio, T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guerillaverde.ro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aceBoo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siglaguerilla.jpg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3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logo"/>
          <p:cNvPicPr/>
          <p:nvPr/>
        </p:nvPicPr>
        <p:blipFill>
          <a:blip r:embed="rId5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3080" y="1285560"/>
            <a:ext cx="67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oad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ebruarie  – mai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iecti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determinarea tinerilor sa aiba initiative concrete pentru protectia mediului. Invitatia de participare la proiectiile de filme cu mesaj ecologic oferite de organizatori reprezinta punctul de pornire in acest se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fasur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iecare proiectie este insotita de dialogul dintre ONG-urile de mediu nationale si locale, care vor indruma tinerii catre un comportament ecologic corect si catre actiuni de voluntari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cati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atile de invatamant mediu si superior (scoli, licee, facultati)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, sali de cinema sau sali improvizate.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sul publicului este liber.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n cadrul editiei din 2013 accesul publicului se va face in schimbul unei doze de aluminiu si/sau a unei bateri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 parcursul celei de-a treia editii a fost efectuat un sondaj privind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comportamentul tinerilor fata de medi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zultatele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sondaju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nt disponibi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ic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28880" y="1356840"/>
            <a:ext cx="63784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aseu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ravana Guerilla Verde:  Bacau, Focsani, Buzau Ploiesti, Bucure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ilme :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or fi proiectate filme care au legatura cu tipul de deseu aflat in discutie – dozele de alumini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intre filmele difuzate in editiile anterioare, se numa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No-impact-man"/>
          <p:cNvPicPr/>
          <p:nvPr/>
        </p:nvPicPr>
        <p:blipFill>
          <a:blip r:embed="rId3"/>
          <a:stretch/>
        </p:blipFill>
        <p:spPr>
          <a:xfrm>
            <a:off x="2187720" y="3286080"/>
            <a:ext cx="1527120" cy="2228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452480" y="24300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48dd4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An Inconvenient Truth.jpg"/>
          <p:cNvPicPr/>
          <p:nvPr/>
        </p:nvPicPr>
        <p:blipFill>
          <a:blip r:embed="rId4"/>
          <a:stretch/>
        </p:blipFill>
        <p:spPr>
          <a:xfrm>
            <a:off x="4000680" y="3429000"/>
            <a:ext cx="135720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The 11th Hour.jpg"/>
          <p:cNvPicPr/>
          <p:nvPr/>
        </p:nvPicPr>
        <p:blipFill>
          <a:blip r:embed="rId5"/>
          <a:stretch/>
        </p:blipFill>
        <p:spPr>
          <a:xfrm>
            <a:off x="5572080" y="3357720"/>
            <a:ext cx="1285920" cy="20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ome.jpg"/>
          <p:cNvPicPr/>
          <p:nvPr/>
        </p:nvPicPr>
        <p:blipFill>
          <a:blip r:embed="rId6"/>
          <a:stretch/>
        </p:blipFill>
        <p:spPr>
          <a:xfrm>
            <a:off x="7120080" y="3357720"/>
            <a:ext cx="1380960" cy="208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38080" y="269676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38080" y="50587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438080" y="742104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989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3952800" y="542916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n Inconvenient Th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73480" y="5500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o Impac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5728320" y="542916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The 11th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512840" y="5429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logo"/>
          <p:cNvPicPr/>
          <p:nvPr/>
        </p:nvPicPr>
        <p:blipFill>
          <a:blip r:embed="rId11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nic</cp:lastModifiedBy>
  <dcterms:modified xsi:type="dcterms:W3CDTF">2013-02-04T09:46:15Z</dcterms:modified>
  <cp:revision>328</cp:revision>
  <dc:subject/>
  <dc:title>PRESENTATION  NAME</dc:title>
</cp:coreProperties>
</file>